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D76E-6389-4B37-90EC-FDB91015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860F-FA7A-41A0-85CF-DE5947DE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9C7A-F2CA-4889-8100-B1135198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2AE-8064-4333-B7B3-585CEBCD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26D4-7BD6-4E20-8FAD-B25085D9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E26F-413F-4D66-8B6D-B93EFA7D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7EC1-6B73-4BDA-9E28-5F5C3EB9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5436-DE0D-442C-AE4A-F6994A3E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9B98-F202-4B88-93E2-F87776EF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21E0-B20C-41A7-8135-8EBD07E1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EDA9-739F-4D55-BE89-38C53FD8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F1A3-10A0-4E6E-AD04-DBF605C7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CA5C-59B2-4D03-882B-5A26E9CFB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404640"/>
            <a:ext cx="55148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scribe the pictures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5715000" cy="3676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92360" y="537372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t is a ………………. There are a …………………., a ………………… and two …………… on the left s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 big ………….. Is on the right. In this room there are three ……………… and brown ………………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71640" y="1058760"/>
            <a:ext cx="67690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715000" cy="3676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900000" y="333360"/>
            <a:ext cx="2019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swer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835280" y="5373720"/>
            <a:ext cx="59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0" lang="es-ES" sz="1800" spc="-1" strike="noStrike">
                <a:solidFill>
                  <a:srgbClr val="009900"/>
                </a:solidFill>
                <a:latin typeface="Arial"/>
              </a:rPr>
              <a:t>bedroom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here are a </a:t>
            </a:r>
            <a:r>
              <a:rPr b="0" lang="es-ES" sz="1800" spc="-1" strike="noStrike">
                <a:solidFill>
                  <a:srgbClr val="009900"/>
                </a:solidFill>
                <a:latin typeface="Arial"/>
              </a:rPr>
              <a:t>cupboard,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     </a:t>
            </a:r>
            <a:r>
              <a:rPr b="0" lang="es-ES" sz="1800" spc="-1" strike="noStrike">
                <a:solidFill>
                  <a:srgbClr val="009900"/>
                </a:solidFill>
                <a:latin typeface="Arial"/>
              </a:rPr>
              <a:t>desk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d two </a:t>
            </a:r>
            <a:r>
              <a:rPr b="0" lang="es-ES" sz="1800" spc="-1" strike="noStrike">
                <a:solidFill>
                  <a:srgbClr val="009900"/>
                </a:solidFill>
                <a:latin typeface="Arial"/>
              </a:rPr>
              <a:t>chair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n the left s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 big </a:t>
            </a:r>
            <a:r>
              <a:rPr b="0" lang="es-ES" sz="1800" spc="-1" strike="noStrike">
                <a:solidFill>
                  <a:srgbClr val="009900"/>
                </a:solidFill>
                <a:latin typeface="Arial"/>
              </a:rPr>
              <a:t>be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s on the right. In this room there are three </a:t>
            </a:r>
            <a:r>
              <a:rPr b="0" lang="es-ES" sz="1800" spc="-1" strike="noStrike">
                <a:solidFill>
                  <a:srgbClr val="009900"/>
                </a:solidFill>
                <a:latin typeface="Arial"/>
              </a:rPr>
              <a:t>lamp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nd brown </a:t>
            </a:r>
            <a:r>
              <a:rPr b="0" lang="es-ES" sz="1800" spc="-1" strike="noStrike">
                <a:solidFill>
                  <a:srgbClr val="009900"/>
                </a:solidFill>
                <a:latin typeface="Arial"/>
              </a:rPr>
              <a:t>curt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Vista parcial salón"/>
          <p:cNvPicPr/>
          <p:nvPr/>
        </p:nvPicPr>
        <p:blipFill>
          <a:blip r:embed="rId1"/>
          <a:stretch/>
        </p:blipFill>
        <p:spPr>
          <a:xfrm>
            <a:off x="1258920" y="784080"/>
            <a:ext cx="6985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19280" y="776160"/>
            <a:ext cx="60483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781200"/>
            <a:ext cx="761976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641520"/>
            <a:ext cx="7705800" cy="54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873000"/>
            <a:ext cx="756144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66760" y="719280"/>
            <a:ext cx="681048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7:16:36Z</dcterms:created>
  <dc:creator>rmi</dc:creator>
  <dc:description/>
  <dc:language>en-US</dc:language>
  <cp:lastModifiedBy>rmi</cp:lastModifiedBy>
  <dcterms:modified xsi:type="dcterms:W3CDTF">2009-04-25T14:15:49Z</dcterms:modified>
  <cp:revision>3</cp:revision>
  <dc:subject/>
  <dc:title>Diapositiva 1</dc:title>
</cp:coreProperties>
</file>